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410-D912-440A-A212-CB1B98AB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EC-B309-4608-B63A-0222D08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E35-F914-4D27-A410-3771104C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EAA-5617-4A67-B57D-075DAF41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57C-B36A-47FF-A8BF-81606DC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D93-BA43-458D-895F-AE797C58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609-89CB-410C-A337-F1EF21A9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4BE-E402-4F51-8B22-E28FE63F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8A1-97B5-40B7-8635-D65877E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01A-F706-4CB6-AC37-F4826727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FF0-78F5-44B4-8762-D00FFF3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826-51AE-49BA-9DD8-CC74647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A117-3BCE-4B73-93BE-9882D1550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actice Ontology: Version 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HCLS C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/18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oti Pathak (Mayo Cli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828800"/>
            <a:ext cx="4800600" cy="281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lude “Med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/verification of the ontology by other members of the COI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of mappings to SDTM and HL7 via BRI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el the following aspects of patient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Lab Results/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IV test, 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Vit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art Rate,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sulin,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DCM (and potentially HL7 R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648320"/>
            <a:ext cx="46483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81160" y="14400"/>
            <a:ext cx="498168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3880"/>
            <a:ext cx="6781680" cy="266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50:02Z</dcterms:created>
  <dc:creator>Jyotishman Pathak</dc:creator>
  <dc:description/>
  <dc:language>en-US</dc:language>
  <cp:lastModifiedBy>Jyotishman Pathak</cp:lastModifiedBy>
  <dcterms:modified xsi:type="dcterms:W3CDTF">2008-03-18T14:16:20Z</dcterms:modified>
  <cp:revision>42</cp:revision>
  <dc:subject/>
  <dc:title>Slide 1</dc:title>
</cp:coreProperties>
</file>